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888-0BF1-4AEB-B378-FAB95100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C45-DDDC-4CCC-8928-230666B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BE2-5729-4083-9260-13AE2E93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E6D-633B-4E03-843A-1BBF8945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74F-BBD9-416E-A20E-C2BE6BB0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BD8-A63C-4305-8961-CFCCD53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F99-EAC3-4874-8733-47A0F162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C7B-58AF-4A95-B85D-889377DE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E02-4D60-4CC8-8823-1DA50E6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941-8F07-4CC1-9D1A-3280F1C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913-DB75-4C0A-B52C-87F4D73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30F-255B-4C92-87EF-5F057E7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8E9-6B98-4B18-9112-22905C3E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 Distribution of Power Cornel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“distribute power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erson(s) or group(s) is in charge of making decisions in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it is distributed to many groups, and sometimes in the hand of on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“levels of govern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What are the 3 ways power is distrib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How does a unitary form of government distribute power?  Ex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is concentrated on on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 is centraliz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ary does NOT equal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Communist party in China,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 Cobb County Central Office &amp; School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How does a confederation distribute power?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onfederations, states or countries keep their own power but work together for a common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try to take power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 Team 7-1 or Team 7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How does a federal government distribute power? 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is in several places—some in central government, some in regions or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eople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US government has state and nationa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 Cobb County rules &amp; Daniell Middle r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32:21Z</dcterms:created>
  <dc:creator>Cobb County School District</dc:creator>
  <dc:description/>
  <dc:language>en-US</dc:language>
  <cp:lastModifiedBy>Cobb County School District</cp:lastModifiedBy>
  <dcterms:modified xsi:type="dcterms:W3CDTF">2009-10-08T15:13:36Z</dcterms:modified>
  <cp:revision>10</cp:revision>
  <dc:subject/>
  <dc:title>Government Distribution of Power Cornell Notes</dc:title>
</cp:coreProperties>
</file>